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commentAuthors.xml><?xml version="1.0" encoding="utf-8"?>
<p:cmAuthorLst xmlns:p="http://schemas.openxmlformats.org/presentationml/2006/main">
  <p:cmAuthor id="0" name="TDaly" initials="T"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2.xml><?xml version="1.0" encoding="utf-8"?>
<p:cmLst xmlns:p="http://schemas.openxmlformats.org/presentationml/2006/main">
  <p:cm authorId="0" dt="2012-11-06T18:45:12.428000000" idx="1">
    <p:pos x="4957" y="3650"/>
    <p:text>Regulatory failure and Management failure in Leas Crpss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16A0E-7319-493A-BA77-8487ABCC4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7FAB3-DBB6-48BE-90C2-6FA37513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E265F-8C1E-4EF9-9312-F1F847659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CA7EC-3B97-4174-AED9-7E2BB9459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FFDF6-A90B-4C8F-9FBC-C6E15B234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273A1-4ADA-4B9D-8869-8FE4D96B0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BFD77-B16C-415B-9A31-A2C6C08B6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EEDC8-3ED4-44F9-B2BD-88A3A2F0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EFE6A-3372-444E-9250-534652EA5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83570-F54A-4E8E-BE09-A9C66B862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16A99-9496-4D5D-B42F-9D94F3A43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7DAC-C95C-429F-A529-A642F589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BF18F-796D-4F89-BC88-F9A589F32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9C172-C9C6-4BBC-8AED-0F02E7991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B0E1A-2DAA-47B1-8903-55FEDB5A4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E4A8E8-61D8-4D0C-B7C8-C5CEF7A64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FB85F-5B7F-41FC-B051-E0DA7144C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611C1B0-8098-45CE-82E7-EAD45CAD34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D63AE8-9F47-4B40-95E5-2B60D4116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A2FF8A-482F-486C-9167-398A44F1F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1102B8-8FBB-4148-843A-C3703A3B5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F77B0B-EE21-4DDA-B7D6-426539924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3D17-BA4A-4C1F-964A-D4C7E8D46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D7BE747-7C17-486C-8EE0-658A0B97A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0B966E-6C16-40AE-9941-DDE89AB35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DEBCD8-F49B-4501-8CB3-6CDAB2B2F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204619-034C-48D0-8EE3-EF28DF3F1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594442-B5E2-4057-91A5-969A2C7A8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DD39C89-0948-4D10-B0F3-977DFC6C4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220AD1-BB00-478C-B8CA-F37AC84B6B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52330C-36C9-482B-AEC0-9BF3C610AD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FF33B1-1619-4D09-AD82-0A5EE231B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00692-2ECD-4992-9F21-547A7A9ABF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3BFD-75B1-4D9D-9715-FE16CD6E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9FD8F-5000-4877-A4D5-8B9DF5B6BB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36BBA-4830-42DC-AB62-26BACA340D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734E2-2A51-4E31-B368-4498813AC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E9742-6FEA-4934-85A7-8FE2A0DD8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7F297-2C7C-4B9B-BCA4-5218AAB80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7B24C-4C8D-46ED-9F45-906BFB8D9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62890-DEF5-407F-9B06-9F039A5F1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35A329-F224-4E04-AC40-5C950D9822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58F85-0691-4AB1-AD94-210C98B359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B5262F-736A-4D65-BFBE-5197C8279B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013A5-0A4E-4DA7-808D-9D44E40AB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070335-1C00-4A2B-AFE7-3EF900F90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AAFC5A-0069-43DF-A20B-03F5F97AD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FB5F118-9772-4FF7-9D28-04588C5BB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46165B-1456-405D-96A1-AB562534B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91269A-0647-46C6-B6E0-49A104633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387E0A-BFCB-42EC-9816-623CC75EA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BEF89A-B869-42E1-A74A-70E4042A31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72EB46-6561-4AFA-B326-6D974785A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A2AC12-E937-480C-A117-3AE96C246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923D00-D302-4C2D-847F-3D37402F03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4BA1D-9E09-4D67-8F4E-E0201E69C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D7ECAC-CA34-4ACF-8BBB-094C3501D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1AE01B9-8A68-4B24-B0C3-48E07A9413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B95E6D8-E84C-4722-B44E-6D8223782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4994EB-C170-49F0-B24E-D14412D0F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5DCAA2-9223-4840-A135-C12B41AD8B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34FF7C2-18D9-42DF-9171-936098333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9BBE2F-4817-430D-8BCD-E71E9CB894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3909DB-356D-4F9A-A4E1-61C814638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3D033C-83E6-45D5-8A01-CF9AF8DA9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94B08A0-A849-4E84-8253-4EACF7A6F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8925-9871-4DFD-A7A5-4FE205D5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7836B54-BF82-48DC-9F3C-C19C2580F3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54446DC-EBC2-4695-B9FA-4AEF72B560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A5A8157-8125-4649-97DB-2C40B43B68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7FB5B2-8C8C-4F04-80CB-E5D77A6BA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6E6986F-B646-42B2-ABC9-6B1AA6667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3BE0A2C-415F-41C1-BC91-2377FFC8B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4BBBA7-B663-4CAA-A281-982567BCA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79E1D1-6BD7-4E0E-A155-5CC38F886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F1E0BB-C24E-4897-BCA2-5769F2A91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DFE1BF-5179-4D64-B865-664F9F781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CB65-B8EC-40AE-8A9A-1E45F6E53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980EDC-845E-42AB-B8EB-BED84B16B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7E1478-19DC-4FFD-8946-6A1C52674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8E2F618-6FB6-4762-94E0-7742A388B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F0AA49F-3A04-4D5D-97F5-E0851E9C91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18F4580-C75A-486A-B88E-56605CD74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E3FE-9535-4343-B230-6E585FE49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DD95-0D95-4B45-A12E-925140B7EFC4}"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1"/>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7"/>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19"/>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5"/>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4"/>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1"/>
          <p:cNvSpPr/>
          <p:nvPr/>
        </p:nvSpPr>
        <p:spPr>
          <a:xfrm>
            <a:off x="911376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0"/>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1309680" y="3649680"/>
            <a:ext cx="641520" cy="4827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3"/>
          <p:cNvSpPr/>
          <p:nvPr/>
        </p:nvSpPr>
        <p:spPr>
          <a:xfrm>
            <a:off x="1090440" y="4125960"/>
            <a:ext cx="138240" cy="101520"/>
          </a:xfrm>
          <a:prstGeom prst="ellipse">
            <a:avLst/>
          </a:prstGeom>
          <a:solidFill>
            <a:srgbClr val="fe8637"/>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5"/>
          <p:cNvSpPr/>
          <p:nvPr/>
        </p:nvSpPr>
        <p:spPr>
          <a:xfrm>
            <a:off x="1663560" y="4341960"/>
            <a:ext cx="274680" cy="2044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4"/>
          <p:cNvSpPr/>
          <p:nvPr/>
        </p:nvSpPr>
        <p:spPr>
          <a:xfrm>
            <a:off x="1905120" y="337176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049960" y="833040"/>
            <a:ext cx="17146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534080" y="308736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58D5-2AA8-4955-940D-C5756CCBABCB}"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431C-A90B-4E7E-ACF5-49F8A0E68FD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2"/>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3"/>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4"/>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5"/>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16"/>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17"/>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8"/>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9"/>
          <p:cNvSpPr/>
          <p:nvPr/>
        </p:nvSpPr>
        <p:spPr>
          <a:xfrm>
            <a:off x="1324080" y="3649680"/>
            <a:ext cx="642960" cy="4827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1090440" y="4125960"/>
            <a:ext cx="138240" cy="101520"/>
          </a:xfrm>
          <a:prstGeom prst="ellipse">
            <a:avLst/>
          </a:prstGeom>
          <a:solidFill>
            <a:srgbClr val="fe8637"/>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1"/>
          <p:cNvSpPr/>
          <p:nvPr/>
        </p:nvSpPr>
        <p:spPr>
          <a:xfrm>
            <a:off x="1663560" y="4343400"/>
            <a:ext cx="274680" cy="206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2"/>
          <p:cNvSpPr/>
          <p:nvPr/>
        </p:nvSpPr>
        <p:spPr>
          <a:xfrm>
            <a:off x="1879560" y="3360600"/>
            <a:ext cx="365040" cy="2732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25"/>
          <p:cNvSpPr/>
          <p:nvPr/>
        </p:nvSpPr>
        <p:spPr>
          <a:xfrm>
            <a:off x="9097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8048520" y="829800"/>
            <a:ext cx="171468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534080" y="308592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EF63-9E32-4289-AA3C-69149E24AE8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AB58-51A3-4CF4-9262-8EDBEE0940DE}"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7"/>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8"/>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0"/>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1"/>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2"/>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13"/>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7E40-0CA9-49CF-9B26-50E472E3570A}"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2"/>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9"/>
          <p:cNvSpPr/>
          <p:nvPr/>
        </p:nvSpPr>
        <p:spPr>
          <a:xfrm>
            <a:off x="8991720" y="0"/>
            <a:ext cx="0" cy="514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0"/>
          <p:cNvSpPr/>
          <p:nvPr/>
        </p:nvSpPr>
        <p:spPr>
          <a:xfrm>
            <a:off x="8839080" y="0"/>
            <a:ext cx="304920" cy="514368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1"/>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8"/>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19"/>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B194-31D1-4AB5-B70D-217522A89CD5}"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2343240"/>
            <a:ext cx="6172200" cy="14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NDEPENDENT</a:t>
            </a:r>
            <a:r>
              <a:rPr b="1" lang="en-GB" sz="2700" spc="-1" strike="noStrike">
                <a:solidFill>
                  <a:srgbClr val="ff0000"/>
                </a:solidFill>
                <a:latin typeface="Century Schoolbook"/>
              </a:rPr>
              <a:t> </a:t>
            </a:r>
            <a:r>
              <a:rPr b="0" lang="en-GB" sz="3200" spc="-1" strike="noStrike">
                <a:solidFill>
                  <a:srgbClr val="000000"/>
                </a:solidFill>
                <a:latin typeface="Times New Roman"/>
                <a:ea typeface="Times New Roman"/>
              </a:rPr>
              <a:t>MARKET ANALYSIS: PREPARING FOR AN ERA OF MAJOR CHANGE</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285640" y="3752640"/>
            <a:ext cx="6172200" cy="1028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Moore McDowell</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ECU Lt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NHI Annual Conference </a:t>
            </a:r>
            <a:r>
              <a:rPr b="1" lang="en-GB" sz="1800" spc="-1" strike="noStrike">
                <a:solidFill>
                  <a:srgbClr val="575f6d"/>
                </a:solidFill>
                <a:latin typeface="Century Schoolbook"/>
              </a:rPr>
              <a:t>November 15, 201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IMPLICATIONS FOR THE FINANCING OF PROVISION OF CARE</a:t>
            </a:r>
            <a:endParaRPr b="0" lang="en-US" sz="2700" spc="-1" strike="noStrike">
              <a:solidFill>
                <a:srgbClr val="575f6d"/>
              </a:solidFill>
              <a:latin typeface="Century Schoolbook"/>
            </a:endParaRPr>
          </a:p>
        </p:txBody>
      </p:sp>
      <p:sp>
        <p:nvSpPr>
          <p:cNvPr id="37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urrent Fair Deal structure, designed to ensure equitable access to care must be chang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principle of co-payment, already accepted, will have to become an instrument of finance rather than a matter of equ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ans related direct payments to consumers (vouchers??) should replace FD payments to provid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IMPLICATIONS FOR THE FINANCING OF PROVISION OF CARE</a:t>
            </a:r>
            <a:endParaRPr b="0" lang="en-US" sz="2700" spc="-1" strike="noStrike">
              <a:solidFill>
                <a:srgbClr val="575f6d"/>
              </a:solidFill>
              <a:latin typeface="Century Schoolbook"/>
            </a:endParaRPr>
          </a:p>
        </p:txBody>
      </p:sp>
      <p:sp>
        <p:nvSpPr>
          <p:cNvPr id="37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LTC and STC are embedded in a health care structure; we are committed to a move to universal health insuranc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implication is that we should move to </a:t>
            </a:r>
            <a:r>
              <a:rPr b="1" lang="en-GB" sz="2000" spc="-1" strike="noStrike">
                <a:solidFill>
                  <a:srgbClr val="000000"/>
                </a:solidFill>
                <a:latin typeface="Century Schoolbook"/>
              </a:rPr>
              <a:t>compulsory</a:t>
            </a:r>
            <a:r>
              <a:rPr b="0" lang="en-GB" sz="2000" spc="-1" strike="noStrike">
                <a:solidFill>
                  <a:srgbClr val="000000"/>
                </a:solidFill>
                <a:latin typeface="Century Schoolbook"/>
              </a:rPr>
              <a:t> LTC care insurance to enable individuals to purchase a pre-determined level of LTC care should they need i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are in excess of this predetermined level can be left to individual choic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is the demand side of a </a:t>
            </a:r>
            <a:r>
              <a:rPr b="1" lang="en-GB" sz="2000" spc="-1" strike="noStrike">
                <a:solidFill>
                  <a:srgbClr val="000000"/>
                </a:solidFill>
                <a:latin typeface="Century Schoolbook"/>
              </a:rPr>
              <a:t>MARKET SOLUTION</a:t>
            </a:r>
            <a:r>
              <a:rPr b="0" lang="en-GB" sz="2000" spc="-1" strike="noStrike">
                <a:solidFill>
                  <a:srgbClr val="000000"/>
                </a:solidFill>
                <a:latin typeface="Century Schoolbook"/>
              </a:rPr>
              <a:t>.</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present regulatory structure is dysfunctiona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t has two components: price setting (NTPF purchase structure); setting service quality standards (HIQA).</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se operate independently and are incompatible with an efficient market solution to the supply proble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ice setting/fixing/capping is not compatible with a market driven supply response to demand chan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is not necessary in a competitive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SE/NTPF financial intervention is economically inefficient, and reflects a preoccupation with short term budgetary concerns rather than efficient operations of the LTC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8"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Quality regulation can be justified to deal with </a:t>
            </a:r>
            <a:r>
              <a:rPr b="0" i="1" lang="en-GB" sz="2400" spc="-1" strike="noStrike">
                <a:solidFill>
                  <a:srgbClr val="000000"/>
                </a:solidFill>
                <a:latin typeface="Century Schoolbook"/>
              </a:rPr>
              <a:t>information asymmetries </a:t>
            </a:r>
            <a:r>
              <a:rPr b="0" lang="en-GB" sz="2400" spc="-1" strike="noStrike">
                <a:solidFill>
                  <a:srgbClr val="000000"/>
                </a:solidFill>
                <a:latin typeface="Century Schoolbook"/>
              </a:rPr>
              <a:t>and </a:t>
            </a:r>
            <a:r>
              <a:rPr b="0" i="1" lang="en-GB" sz="2400" spc="-1" strike="noStrike">
                <a:solidFill>
                  <a:srgbClr val="000000"/>
                </a:solidFill>
                <a:latin typeface="Century Schoolbook"/>
              </a:rPr>
              <a:t>potential standard of care </a:t>
            </a:r>
            <a:r>
              <a:rPr b="0" lang="en-GB" sz="2400" spc="-1" strike="noStrike">
                <a:solidFill>
                  <a:srgbClr val="000000"/>
                </a:solidFill>
                <a:latin typeface="Century Schoolbook"/>
              </a:rPr>
              <a:t>probl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ase for the current HIQA stance of forcing the pace on improved quality is difficult to understan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is little or no evidence of cost/benefit analysis, and effective Regulatory Impact Assess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8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QA’s technical capacity to analyse information flows is questionable  (see 2012 repor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is a predisposition to uniform prescription and micro-management in HIQA’s regulations on nursing home opera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GULATION: THE NEED FOR REFORM</a:t>
            </a:r>
            <a:endParaRPr b="0" lang="en-US" sz="3000" spc="-1" strike="noStrike">
              <a:solidFill>
                <a:srgbClr val="575f6d"/>
              </a:solidFill>
              <a:latin typeface="Century Schoolbook"/>
            </a:endParaRPr>
          </a:p>
        </p:txBody>
      </p:sp>
      <p:sp>
        <p:nvSpPr>
          <p:cNvPr id="38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stead of prescribed format requirements HIQA should  establish performance indicators and rank</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tructure of HIQA’s approach to implementation of regulation is good: publication of finding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 higher level availability of overall performance would be helpfu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HI: LOOKING FORWARD.</a:t>
            </a:r>
            <a:endParaRPr b="0" lang="en-US" sz="3000" spc="-1" strike="noStrike">
              <a:solidFill>
                <a:srgbClr val="575f6d"/>
              </a:solidFill>
              <a:latin typeface="Century Schoolbook"/>
            </a:endParaRPr>
          </a:p>
        </p:txBody>
      </p:sp>
      <p:sp>
        <p:nvSpPr>
          <p:cNvPr id="38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1: While it is necessary to lobby for improvements in how current financing and regulation are operated, NHI and the stakeholders should also be thinking about long term development models and the triggers required to make this happe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2: The structure of the sector is changing as the HSE capacity contracts and will continue to contrac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3: Consolidation of operators in the sector private/voluntary sector likely and should be accepted by the secto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HI: LOOKING FORWARD</a:t>
            </a:r>
            <a:endParaRPr b="0" lang="en-US" sz="3000" spc="-1" strike="noStrike">
              <a:solidFill>
                <a:srgbClr val="575f6d"/>
              </a:solidFill>
              <a:latin typeface="Century Schoolbook"/>
            </a:endParaRPr>
          </a:p>
        </p:txBody>
      </p:sp>
      <p:sp>
        <p:nvSpPr>
          <p:cNvPr id="38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4: Changes in the delivery of care generally in the healthcare sector have implications for the complexity of need and range of services provided by nursing homes (increased specialisatio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5: The NH sector needs to be able to adapt to possible sociological trends in terms of provision of informal car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6: The sector needs to be sure that day to day reactions to budget derived changes in demand do not distract public attention from longer term and deeper changes that will affect the secto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000" y="-360"/>
            <a:ext cx="746748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SSUES TO BE ADDRESSED</a:t>
            </a:r>
            <a:endParaRPr b="0" lang="en-US" sz="3000" spc="-1" strike="noStrike">
              <a:solidFill>
                <a:srgbClr val="575f6d"/>
              </a:solidFill>
              <a:latin typeface="Century Schoolbook"/>
            </a:endParaRPr>
          </a:p>
        </p:txBody>
      </p:sp>
      <p:sp>
        <p:nvSpPr>
          <p:cNvPr id="354" name=""/>
          <p:cNvSpPr txBox="1"/>
          <p:nvPr/>
        </p:nvSpPr>
        <p:spPr>
          <a:xfrm>
            <a:off x="468000" y="1058760"/>
            <a:ext cx="7467480" cy="365616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n we predict demand/need and on that basis rely on planned approach to development of LTC?</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is required for a market driven response to a changing environmen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 do the current and proposed approaches to financing and regulating LTC score in terms of the above?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should </a:t>
            </a:r>
            <a:r>
              <a:rPr b="0" lang="en-GB" sz="2400" spc="-1" strike="noStrike">
                <a:solidFill>
                  <a:srgbClr val="000000"/>
                </a:solidFill>
                <a:latin typeface="Times New Roman"/>
                <a:ea typeface="Times New Roman"/>
              </a:rPr>
              <a:t>policy makers, stakeholders inc NHI be looking at in terms of the policy for</a:t>
            </a:r>
            <a:r>
              <a:rPr b="0" lang="en-GB" sz="2400" spc="-1" strike="noStrike">
                <a:solidFill>
                  <a:srgbClr val="000000"/>
                </a:solidFill>
                <a:latin typeface="Century Schoolbook"/>
              </a:rPr>
              <a:t> the sect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HAPE OF THINGS TO COME.</a:t>
            </a:r>
            <a:endParaRPr b="0" lang="en-US" sz="3000" spc="-1" strike="noStrike">
              <a:solidFill>
                <a:srgbClr val="575f6d"/>
              </a:solidFill>
              <a:latin typeface="Century Schoolbook"/>
            </a:endParaRPr>
          </a:p>
        </p:txBody>
      </p:sp>
      <p:sp>
        <p:nvSpPr>
          <p:cNvPr id="35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nventional forecasting of demand for NH care on the basis of demography is only feasible for about 15 years maximum.</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 any case applies only to LTC.</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econdly, demographics is only one of the influences on deman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HAPE OF THINGS TO COME</a:t>
            </a:r>
            <a:endParaRPr b="0" lang="en-US" sz="3000" spc="-1" strike="noStrike">
              <a:solidFill>
                <a:srgbClr val="575f6d"/>
              </a:solidFill>
              <a:latin typeface="Century Schoolbook"/>
            </a:endParaRPr>
          </a:p>
        </p:txBody>
      </p:sp>
      <p:pic>
        <p:nvPicPr>
          <p:cNvPr id="358" name="Content Placeholder 2" descr=""/>
          <p:cNvPicPr/>
          <p:nvPr/>
        </p:nvPicPr>
        <p:blipFill>
          <a:blip r:embed="rId1"/>
          <a:stretch/>
        </p:blipFill>
        <p:spPr>
          <a:xfrm>
            <a:off x="426960" y="1073160"/>
            <a:ext cx="7516800" cy="37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 THE MARKET MODEL</a:t>
            </a:r>
            <a:endParaRPr b="0" lang="en-US" sz="3000" spc="-1" strike="noStrike">
              <a:solidFill>
                <a:srgbClr val="575f6d"/>
              </a:solidFill>
              <a:latin typeface="Century Schoolbook"/>
            </a:endParaRPr>
          </a:p>
        </p:txBody>
      </p:sp>
      <p:sp>
        <p:nvSpPr>
          <p:cNvPr id="36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key is not to predict in detail and prepare, but to ensure that the sector can respond effectively to changes in its environmen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ediction helps set the likely broad  development of the sector and its environment in foc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 THE MARKET MODEL</a:t>
            </a:r>
            <a:endParaRPr b="0" lang="en-US" sz="3000" spc="-1" strike="noStrike">
              <a:solidFill>
                <a:srgbClr val="575f6d"/>
              </a:solidFill>
              <a:latin typeface="Century Schoolbook"/>
            </a:endParaRPr>
          </a:p>
        </p:txBody>
      </p:sp>
      <p:sp>
        <p:nvSpPr>
          <p:cNvPr id="36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 know that under present policy parameters demand for LTC in NHs will rise dramatically over the next 10 – 15 yea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tate has signalled its intent to reduce its involvement in meeting dem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 know, therefore, that if demand is to be met this can only come from expanded private/voluntary sector capacit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THE MARKET MODEL</a:t>
            </a:r>
            <a:endParaRPr b="0" lang="en-US" sz="3000" spc="-1" strike="noStrike">
              <a:solidFill>
                <a:srgbClr val="575f6d"/>
              </a:solidFill>
              <a:latin typeface="Century Schoolbook"/>
            </a:endParaRPr>
          </a:p>
        </p:txBody>
      </p:sp>
      <p:sp>
        <p:nvSpPr>
          <p:cNvPr id="36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eting demand, therefore, requires that this sector’s capacity can expand as needs dic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faces present and new NH operators with a choice: to be the managing agents of a state funded “private” system, 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nsuring that they can fund expanded capacity as requir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is a </a:t>
            </a:r>
            <a:r>
              <a:rPr b="1" lang="en-GB" sz="2400" spc="-1" strike="noStrike">
                <a:solidFill>
                  <a:srgbClr val="000000"/>
                </a:solidFill>
                <a:latin typeface="Century Schoolbook"/>
              </a:rPr>
              <a:t>MARKET SOLUTION </a:t>
            </a:r>
            <a:r>
              <a:rPr b="0" lang="en-GB" sz="2400" spc="-1" strike="noStrike">
                <a:solidFill>
                  <a:srgbClr val="000000"/>
                </a:solidFill>
                <a:latin typeface="Century Schoolbook"/>
              </a:rPr>
              <a:t>on the supply sid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HOW TO PREPARE: THE ROLE OF THE FINANCE MECHANISM</a:t>
            </a:r>
            <a:endParaRPr b="0" lang="en-US" sz="2700" spc="-1" strike="noStrike">
              <a:solidFill>
                <a:srgbClr val="575f6d"/>
              </a:solidFill>
              <a:latin typeface="Century Schoolbook"/>
            </a:endParaRPr>
          </a:p>
        </p:txBody>
      </p:sp>
      <p:sp>
        <p:nvSpPr>
          <p:cNvPr id="36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bility to finance development is the ke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ecessary condition is that suppliers must be financially viable, financially stable, profitable and not merely cover variable cos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eans accepting that there will be winners and losers. Suppliers must accept market discipli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perators cannot expect state or other finance for inefficient opera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MARKET SOLUTION REQUIRES PROFITS</a:t>
            </a:r>
            <a:endParaRPr b="0" lang="en-US" sz="3000" spc="-1" strike="noStrike">
              <a:solidFill>
                <a:srgbClr val="575f6d"/>
              </a:solidFill>
              <a:latin typeface="Century Schoolbook"/>
            </a:endParaRPr>
          </a:p>
        </p:txBody>
      </p:sp>
      <p:sp>
        <p:nvSpPr>
          <p:cNvPr id="368"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earn profits to service capital requirements  implies prices set to secure an adequate return on capital employ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mplications for the pricing of ca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rst, and before looking at the overall structure of payment for LTC, price capping must g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condly, the regulatory regime will have to be changed. The squeeze must g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15:32:48Z</dcterms:created>
  <dc:creator>Moore</dc:creator>
  <dc:description/>
  <dc:language>en-US</dc:language>
  <cp:lastModifiedBy>admin</cp:lastModifiedBy>
  <dcterms:modified xsi:type="dcterms:W3CDTF">2012-11-13T09:44:54Z</dcterms:modified>
  <cp:revision>74</cp:revision>
  <dc:subject/>
  <dc:title>NHI: Preparing for an Era of Major Change</dc:title>
</cp:coreProperties>
</file>