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5145088"/>
  <p:notesSz cx="6858000" cy="9144000"/>
</p:presentation>
</file>

<file path=ppt/commentAuthors.xml><?xml version="1.0" encoding="utf-8"?>
<p:cmAuthorLst xmlns:p="http://schemas.openxmlformats.org/presentationml/2006/main">
  <p:cmAuthor id="0" name="TDaly" initials="T"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2.xml><?xml version="1.0" encoding="utf-8"?>
<p:cmLst xmlns:p="http://schemas.openxmlformats.org/presentationml/2006/main">
  <p:cm authorId="0" dt="2012-11-06T18:45:12.428000000" idx="1">
    <p:pos x="4957" y="3650"/>
    <p:text>Regulatory failure and Management failure in Leas Crpss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487247-92DF-49B5-8FB2-2DB63FED92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AA87B-24F5-4943-9134-033DA2376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B578D0-8E70-41FF-8489-3BFB854F8F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5D5FEA-C9F2-4849-9198-0DC5E791E9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5681F0-963C-4701-B843-1407321A3A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4EA0A-1B70-4705-8F22-BD7E1D608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E194B0-02C1-47E8-9E7E-C46D2F8A42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B22580-DDF6-43BE-87A6-04C80D818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8F452-FF77-4885-AF16-183382AD2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AED2F-5703-4BE7-9CC6-38BD86EBB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7DD817-27D1-4B76-A04E-585837883B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B3A6B-1ABC-45BF-AC20-3976CD2D6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A3AC5-CD6B-4737-9F89-7A271E366E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4FC1B2-76DF-423F-87FF-522ED5D18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3396D-CAA0-40B3-974B-0E81D76B9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157CC2-394E-4816-909A-E195894332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4D9591-511C-46A3-9EAC-5D7C7D84EB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081FA647-D056-464C-B4C5-32D2742B6F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46D5299-B549-46D4-B2EF-368BDF3211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9DB5302A-603D-46C5-B9AE-57A639D5F5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8EE89EC-9503-4A88-AE30-9FABCA73BD8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F6472E8-ED3C-4F70-81E1-18A0E0B4E5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BC2CE-16D7-49AE-A0C8-485CF89DC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90CF662-B99C-46AF-BA91-FD3D7EC5C3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8DE6245-A418-4D54-8974-02685B2EBC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2E84534-1B95-4DC0-A47D-E68812964A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FC52329-50B3-474A-B026-7CA7BD48FE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56C8EC4-62E4-4258-8A3C-5490CB4762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95457951-008D-4215-A02A-A101076AC1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3D3AE8D-CEE0-448C-9852-35A04005F1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1AB0ED-155A-4F5B-AD84-F96309FBBA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20ACB9-6EC3-49CC-935B-3AFC2E5804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FFCB79-D76E-46EF-879F-C52902B1ED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86E66-1A17-430C-A02D-1D8A3958E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6D0DF3-56C2-4744-83DA-BAE2AC4D8F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47CD97-0D20-47BD-A6BD-31D56B2B7B6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DEE7AC-4E85-4586-8220-C24BA45E1C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3C239-FA51-47E4-89DA-844D284C3A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E2829E-744F-4C58-8D3F-4B135B264E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7DE0EE-A12F-4725-BAF9-9AD062F2F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756AC6-2101-4F6E-AAC3-6089C15478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AD79063-C50D-4BB1-8DD8-8C1D550305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F8985C-2016-4016-AFA4-51E2B197A4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F3B9FBE-48EB-434D-B72E-2C1827CD4A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42858-4A59-4AC5-8CAC-0E0B5E238A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FB99F79-43D4-4542-9CBF-352CE70C55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51247AB-DAEC-4699-9249-EAA1241CDB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79D7E9B-5FD6-4179-9C91-AA23A4FEA0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96D7C67-4AB8-4583-9102-362D266B3B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30AE1EA-0EBC-4EF2-A51E-9A4FA27667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ACCFF2-0357-47D3-A32B-53034AA3A4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BEB82C-7784-40B7-8688-AF643E7076A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9542F88-E029-4F4C-95B5-FFC4DB29CE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12CB3ED-2922-46BD-8D79-8A23E17786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88D383D-190E-4080-904A-15B71EB50F8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C53163-3393-44ED-A625-752F7531E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55D468C0-09B0-4593-AEDF-8C4746FADD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C856769D-FDF5-433A-A26D-F75680DCC52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7A3CCB7-0391-4DC8-ABD0-5F12777B19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FD5C4581-85FA-442B-B9F1-A9576C3D95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12C3227-ADD2-4997-8378-DA6E0E0F52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6E91BE3E-E913-44B3-98F7-55A07FF682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4AD20D6-9FE3-4BB0-90F9-94AA236AED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61B2E22A-8442-4B82-8FE9-ADB5357170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475C28D-D281-4036-844E-E1AD4B561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C7D6897-22E3-4E5A-9CA2-10FEDBADC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5D0E4F-A705-496B-8302-C811663785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E2C9A40-BF84-4C54-9B80-05ED800147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59E3C1AF-F70D-4192-A154-F5D4EDF6EC8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5E32A61-36DB-4AF9-B11B-B09D3150EB4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FCEB6E1-2216-4196-8509-DD09A51EE0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199880"/>
            <a:ext cx="7467480" cy="3655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936A02A9-C453-4068-993A-7B8C0DD2700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199880"/>
            <a:ext cx="746748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54F07C2-FC2F-4305-BF3E-F1DEE78B2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A29D09BA-7ED9-4EF3-8E63-C9C20F20D7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4EF8FD6-70D1-4D86-9E83-A164E107BD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06280"/>
            <a:ext cx="7467480" cy="39762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43E75D0A-CB69-46C7-9640-C0782528C2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3B870BD-5283-4C32-B27F-BF469084F4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26F56-4F23-4DB3-AEE5-1156B4D1CF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199880"/>
            <a:ext cx="3643920" cy="3655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F21093-8E29-43A5-8E97-279BEA728E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4A1E70E-8A14-4EA9-9CB2-18E5CE9D42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19988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0704462-21AC-4F55-AABC-C3B665159C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310932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3C6F83D4-AA48-45A1-B5A7-087F36120D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19988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3109320"/>
            <a:ext cx="240444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93BC49B9-7978-443B-AE39-5EC5897842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199880"/>
            <a:ext cx="364392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3109320"/>
            <a:ext cx="7467480" cy="1743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CDF775-5B46-4E55-B05F-35AD658FFA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4286160"/>
            <a:ext cx="549360" cy="4129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D5463-60A4-4A6B-9BCF-6E085CF388AD}"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380880" y="0"/>
            <a:ext cx="609840" cy="514368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1"/>
          <p:cNvSpPr/>
          <p:nvPr/>
        </p:nvSpPr>
        <p:spPr>
          <a:xfrm>
            <a:off x="276120" y="0"/>
            <a:ext cx="104760" cy="514368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3"/>
          <p:cNvSpPr/>
          <p:nvPr/>
        </p:nvSpPr>
        <p:spPr>
          <a:xfrm>
            <a:off x="990720" y="0"/>
            <a:ext cx="182520" cy="514368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514368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0"/>
          <p:cNvSpPr/>
          <p:nvPr/>
        </p:nvSpPr>
        <p:spPr>
          <a:xfrm>
            <a:off x="106200" y="0"/>
            <a:ext cx="0" cy="514368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7"/>
          <p:cNvSpPr/>
          <p:nvPr/>
        </p:nvSpPr>
        <p:spPr>
          <a:xfrm>
            <a:off x="914400" y="0"/>
            <a:ext cx="0" cy="514368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19"/>
          <p:cNvSpPr/>
          <p:nvPr/>
        </p:nvSpPr>
        <p:spPr>
          <a:xfrm>
            <a:off x="8539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5"/>
          <p:cNvSpPr/>
          <p:nvPr/>
        </p:nvSpPr>
        <p:spPr>
          <a:xfrm>
            <a:off x="1727280" y="0"/>
            <a:ext cx="0" cy="514368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14"/>
          <p:cNvSpPr/>
          <p:nvPr/>
        </p:nvSpPr>
        <p:spPr>
          <a:xfrm>
            <a:off x="1066680" y="0"/>
            <a:ext cx="0" cy="514368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1"/>
          <p:cNvSpPr/>
          <p:nvPr/>
        </p:nvSpPr>
        <p:spPr>
          <a:xfrm>
            <a:off x="911376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514368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0"/>
          <p:cNvSpPr/>
          <p:nvPr/>
        </p:nvSpPr>
        <p:spPr>
          <a:xfrm>
            <a:off x="609480" y="2571840"/>
            <a:ext cx="1295640" cy="9716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2"/>
          <p:cNvSpPr/>
          <p:nvPr/>
        </p:nvSpPr>
        <p:spPr>
          <a:xfrm>
            <a:off x="1309680" y="3649680"/>
            <a:ext cx="641520" cy="4827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3"/>
          <p:cNvSpPr/>
          <p:nvPr/>
        </p:nvSpPr>
        <p:spPr>
          <a:xfrm>
            <a:off x="1090440" y="4125960"/>
            <a:ext cx="138240" cy="101520"/>
          </a:xfrm>
          <a:prstGeom prst="ellipse">
            <a:avLst/>
          </a:prstGeom>
          <a:solidFill>
            <a:srgbClr val="fe8637"/>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25"/>
          <p:cNvSpPr/>
          <p:nvPr/>
        </p:nvSpPr>
        <p:spPr>
          <a:xfrm>
            <a:off x="1663560" y="4341960"/>
            <a:ext cx="274680" cy="2044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24"/>
          <p:cNvSpPr/>
          <p:nvPr/>
        </p:nvSpPr>
        <p:spPr>
          <a:xfrm>
            <a:off x="1905120" y="3371760"/>
            <a:ext cx="36504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8049960" y="833040"/>
            <a:ext cx="171468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534080" y="3087360"/>
            <a:ext cx="2743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3697200"/>
            <a:ext cx="609480" cy="387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B7E15-2CC4-4A97-93D5-E7C6C81690D9}"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4286160"/>
            <a:ext cx="549360" cy="4129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4DB4B-F441-4AC4-A16D-694B39F68331}"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8"/>
          <p:cNvSpPr/>
          <p:nvPr/>
        </p:nvSpPr>
        <p:spPr>
          <a:xfrm>
            <a:off x="380880" y="0"/>
            <a:ext cx="609840" cy="514368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9"/>
          <p:cNvSpPr/>
          <p:nvPr/>
        </p:nvSpPr>
        <p:spPr>
          <a:xfrm>
            <a:off x="276120" y="0"/>
            <a:ext cx="104760" cy="514368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0"/>
          <p:cNvSpPr/>
          <p:nvPr/>
        </p:nvSpPr>
        <p:spPr>
          <a:xfrm>
            <a:off x="990720" y="0"/>
            <a:ext cx="182520" cy="514368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1"/>
          <p:cNvSpPr/>
          <p:nvPr/>
        </p:nvSpPr>
        <p:spPr>
          <a:xfrm>
            <a:off x="1141560" y="0"/>
            <a:ext cx="230040" cy="514368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2"/>
          <p:cNvSpPr/>
          <p:nvPr/>
        </p:nvSpPr>
        <p:spPr>
          <a:xfrm>
            <a:off x="106200" y="0"/>
            <a:ext cx="0" cy="514368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3"/>
          <p:cNvSpPr/>
          <p:nvPr/>
        </p:nvSpPr>
        <p:spPr>
          <a:xfrm>
            <a:off x="914400" y="0"/>
            <a:ext cx="0" cy="514368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14"/>
          <p:cNvSpPr/>
          <p:nvPr/>
        </p:nvSpPr>
        <p:spPr>
          <a:xfrm>
            <a:off x="8539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15"/>
          <p:cNvSpPr/>
          <p:nvPr/>
        </p:nvSpPr>
        <p:spPr>
          <a:xfrm>
            <a:off x="1727280" y="0"/>
            <a:ext cx="0" cy="514368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16"/>
          <p:cNvSpPr/>
          <p:nvPr/>
        </p:nvSpPr>
        <p:spPr>
          <a:xfrm>
            <a:off x="1066680" y="0"/>
            <a:ext cx="0" cy="514368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17"/>
          <p:cNvSpPr/>
          <p:nvPr/>
        </p:nvSpPr>
        <p:spPr>
          <a:xfrm>
            <a:off x="1219320" y="0"/>
            <a:ext cx="75960" cy="514368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18"/>
          <p:cNvSpPr/>
          <p:nvPr/>
        </p:nvSpPr>
        <p:spPr>
          <a:xfrm>
            <a:off x="609480" y="2571840"/>
            <a:ext cx="1295640" cy="9716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19"/>
          <p:cNvSpPr/>
          <p:nvPr/>
        </p:nvSpPr>
        <p:spPr>
          <a:xfrm>
            <a:off x="1324080" y="3649680"/>
            <a:ext cx="642960" cy="4827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0"/>
          <p:cNvSpPr/>
          <p:nvPr/>
        </p:nvSpPr>
        <p:spPr>
          <a:xfrm>
            <a:off x="1090440" y="4125960"/>
            <a:ext cx="138240" cy="101520"/>
          </a:xfrm>
          <a:prstGeom prst="ellipse">
            <a:avLst/>
          </a:prstGeom>
          <a:solidFill>
            <a:srgbClr val="fe8637"/>
          </a:solidFill>
          <a:ln w="0">
            <a:noFill/>
          </a:ln>
        </p:spPr>
        <p:style>
          <a:lnRef idx="0"/>
          <a:fillRef idx="0"/>
          <a:effectRef idx="0"/>
          <a:fontRef idx="minor"/>
        </p:style>
        <p:txBody>
          <a:bodyPr lIns="90000" rIns="90000" tIns="25200" bIns="25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1"/>
          <p:cNvSpPr/>
          <p:nvPr/>
        </p:nvSpPr>
        <p:spPr>
          <a:xfrm>
            <a:off x="1663560" y="4343400"/>
            <a:ext cx="274680" cy="206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22"/>
          <p:cNvSpPr/>
          <p:nvPr/>
        </p:nvSpPr>
        <p:spPr>
          <a:xfrm>
            <a:off x="1879560" y="3360600"/>
            <a:ext cx="365040" cy="2732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25"/>
          <p:cNvSpPr/>
          <p:nvPr/>
        </p:nvSpPr>
        <p:spPr>
          <a:xfrm>
            <a:off x="90979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8048520" y="829800"/>
            <a:ext cx="171468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534080" y="3085920"/>
            <a:ext cx="27432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3697200"/>
            <a:ext cx="609480" cy="3873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43C36-9F0E-4D6F-B8A0-3FE660B1304C}"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514368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4286160"/>
            <a:ext cx="549360" cy="4129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95EF9-DAEA-4A7F-B420-741DDDE548E7}"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9"/>
          <p:cNvSpPr/>
          <p:nvPr/>
        </p:nvSpPr>
        <p:spPr>
          <a:xfrm>
            <a:off x="8763120" y="0"/>
            <a:ext cx="0" cy="514368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7"/>
          <p:cNvSpPr/>
          <p:nvPr/>
        </p:nvSpPr>
        <p:spPr>
          <a:xfrm>
            <a:off x="6248520" y="0"/>
            <a:ext cx="0" cy="514368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8"/>
          <p:cNvSpPr/>
          <p:nvPr/>
        </p:nvSpPr>
        <p:spPr>
          <a:xfrm>
            <a:off x="6192720" y="0"/>
            <a:ext cx="0" cy="514368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0"/>
          <p:cNvSpPr/>
          <p:nvPr/>
        </p:nvSpPr>
        <p:spPr>
          <a:xfrm>
            <a:off x="8991720" y="0"/>
            <a:ext cx="0" cy="514368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1"/>
          <p:cNvSpPr/>
          <p:nvPr/>
        </p:nvSpPr>
        <p:spPr>
          <a:xfrm>
            <a:off x="8839080" y="0"/>
            <a:ext cx="304920" cy="514368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2"/>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13"/>
          <p:cNvSpPr/>
          <p:nvPr/>
        </p:nvSpPr>
        <p:spPr>
          <a:xfrm>
            <a:off x="8156520" y="4286160"/>
            <a:ext cx="549360" cy="4129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6213F-6959-4D3B-BC03-659326B3076C}"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8"/>
          <p:cNvSpPr/>
          <p:nvPr/>
        </p:nvSpPr>
        <p:spPr>
          <a:xfrm>
            <a:off x="8763120" y="0"/>
            <a:ext cx="0" cy="514368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2"/>
          <p:cNvSpPr/>
          <p:nvPr/>
        </p:nvSpPr>
        <p:spPr>
          <a:xfrm>
            <a:off x="8156520" y="4286160"/>
            <a:ext cx="549360" cy="4129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9"/>
          <p:cNvSpPr/>
          <p:nvPr/>
        </p:nvSpPr>
        <p:spPr>
          <a:xfrm>
            <a:off x="8991720" y="0"/>
            <a:ext cx="0" cy="514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0"/>
          <p:cNvSpPr/>
          <p:nvPr/>
        </p:nvSpPr>
        <p:spPr>
          <a:xfrm>
            <a:off x="8839080" y="0"/>
            <a:ext cx="304920" cy="514368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1"/>
          <p:cNvSpPr/>
          <p:nvPr/>
        </p:nvSpPr>
        <p:spPr>
          <a:xfrm>
            <a:off x="8915400" y="0"/>
            <a:ext cx="0" cy="514368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8"/>
          <p:cNvSpPr/>
          <p:nvPr/>
        </p:nvSpPr>
        <p:spPr>
          <a:xfrm>
            <a:off x="6248520" y="0"/>
            <a:ext cx="0" cy="514368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19"/>
          <p:cNvSpPr/>
          <p:nvPr/>
        </p:nvSpPr>
        <p:spPr>
          <a:xfrm>
            <a:off x="6192720" y="0"/>
            <a:ext cx="0" cy="514368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199880"/>
            <a:ext cx="7467480" cy="365580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840800" y="763200"/>
            <a:ext cx="150804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4300200"/>
            <a:ext cx="609840" cy="3906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BB941-FA46-4C6E-A7B0-66016D83D931}" type="slidenum">
              <a:rPr b="1" lang="en-GB"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7389720" y="2757600"/>
            <a:ext cx="2400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5640" y="2343240"/>
            <a:ext cx="6172200" cy="14205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ea typeface="Times New Roman"/>
              </a:rPr>
              <a:t>INDEPENDENT</a:t>
            </a:r>
            <a:r>
              <a:rPr b="1" lang="en-GB" sz="2700" spc="-1" strike="noStrike">
                <a:solidFill>
                  <a:srgbClr val="ff0000"/>
                </a:solidFill>
                <a:latin typeface="Century Schoolbook"/>
              </a:rPr>
              <a:t> </a:t>
            </a:r>
            <a:r>
              <a:rPr b="0" lang="en-GB" sz="3200" spc="-1" strike="noStrike">
                <a:solidFill>
                  <a:srgbClr val="000000"/>
                </a:solidFill>
                <a:latin typeface="Times New Roman"/>
                <a:ea typeface="Times New Roman"/>
              </a:rPr>
              <a:t>MARKET ANALYSIS: PREPARING FOR AN ERA OF MAJOR CHANGE</a:t>
            </a:r>
            <a:endParaRPr b="0" lang="en-US" sz="3200" spc="-1" strike="noStrike">
              <a:solidFill>
                <a:srgbClr val="575f6d"/>
              </a:solidFill>
              <a:latin typeface="Century Schoolbook"/>
            </a:endParaRPr>
          </a:p>
        </p:txBody>
      </p:sp>
      <p:sp>
        <p:nvSpPr>
          <p:cNvPr id="352" name="PlaceHolder 2"/>
          <p:cNvSpPr>
            <a:spLocks noGrp="1"/>
          </p:cNvSpPr>
          <p:nvPr>
            <p:ph type="subTitle"/>
          </p:nvPr>
        </p:nvSpPr>
        <p:spPr>
          <a:xfrm>
            <a:off x="2285640" y="3752640"/>
            <a:ext cx="6172200" cy="10285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Moore McDowell</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75f6d"/>
                </a:solidFill>
                <a:latin typeface="Century Schoolbook"/>
              </a:rPr>
              <a:t>ECU Ltd</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entury Schoolbook"/>
              </a:rPr>
              <a:t>NHI Annual Conference </a:t>
            </a:r>
            <a:r>
              <a:rPr b="1" lang="en-GB" sz="1800" spc="-1" strike="noStrike">
                <a:solidFill>
                  <a:srgbClr val="575f6d"/>
                </a:solidFill>
                <a:latin typeface="Century Schoolbook"/>
              </a:rPr>
              <a:t>November 15, 2012.</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IMPLICATIONS FOR THE FINANCING OF PROVISION OF CARE</a:t>
            </a:r>
            <a:endParaRPr b="0" lang="en-US" sz="2700" spc="-1" strike="noStrike">
              <a:solidFill>
                <a:srgbClr val="575f6d"/>
              </a:solidFill>
              <a:latin typeface="Century Schoolbook"/>
            </a:endParaRPr>
          </a:p>
        </p:txBody>
      </p:sp>
      <p:sp>
        <p:nvSpPr>
          <p:cNvPr id="370"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urrent Fair Deal structure, designed to ensure equitable access to care must be chang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principle of co-payment, already accepted, will have to become an instrument of finance rather than a matter of equit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eans related direct payments to consumers (vouchers??) should replace FD payments to providers.</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IMPLICATIONS FOR THE FINANCING OF PROVISION OF CARE</a:t>
            </a:r>
            <a:endParaRPr b="0" lang="en-US" sz="2700" spc="-1" strike="noStrike">
              <a:solidFill>
                <a:srgbClr val="575f6d"/>
              </a:solidFill>
              <a:latin typeface="Century Schoolbook"/>
            </a:endParaRPr>
          </a:p>
        </p:txBody>
      </p:sp>
      <p:sp>
        <p:nvSpPr>
          <p:cNvPr id="372"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LTC and STC are embedded in a health care structure; we are committed to a move to universal health insuranc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e implication is that we should move to </a:t>
            </a:r>
            <a:r>
              <a:rPr b="1" lang="en-GB" sz="2000" spc="-1" strike="noStrike">
                <a:solidFill>
                  <a:srgbClr val="000000"/>
                </a:solidFill>
                <a:latin typeface="Century Schoolbook"/>
              </a:rPr>
              <a:t>compulsory</a:t>
            </a:r>
            <a:r>
              <a:rPr b="0" lang="en-GB" sz="2000" spc="-1" strike="noStrike">
                <a:solidFill>
                  <a:srgbClr val="000000"/>
                </a:solidFill>
                <a:latin typeface="Century Schoolbook"/>
              </a:rPr>
              <a:t> LTC care insurance to enable individuals to purchase a pre-determined level of LTC care should they need it.</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Care in excess of this predetermined level can be left to individual choic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This is the demand side of a </a:t>
            </a:r>
            <a:r>
              <a:rPr b="1" lang="en-GB" sz="2000" spc="-1" strike="noStrike">
                <a:solidFill>
                  <a:srgbClr val="000000"/>
                </a:solidFill>
                <a:latin typeface="Century Schoolbook"/>
              </a:rPr>
              <a:t>MARKET SOLUTION</a:t>
            </a:r>
            <a:r>
              <a:rPr b="0" lang="en-GB" sz="2000" spc="-1" strike="noStrike">
                <a:solidFill>
                  <a:srgbClr val="000000"/>
                </a:solidFill>
                <a:latin typeface="Century Schoolbook"/>
              </a:rPr>
              <a:t>.</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IMPLICATIONS FOR REGULATION</a:t>
            </a:r>
            <a:endParaRPr b="0" lang="en-US" sz="3000" spc="-1" strike="noStrike">
              <a:solidFill>
                <a:srgbClr val="575f6d"/>
              </a:solidFill>
              <a:latin typeface="Century Schoolbook"/>
            </a:endParaRPr>
          </a:p>
        </p:txBody>
      </p:sp>
      <p:sp>
        <p:nvSpPr>
          <p:cNvPr id="374"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present regulatory structure is dysfunctional</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It has two components: price setting (NTPF purchase structure); setting service quality standards (HIQA).</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se operate independently and are incompatible with an efficient market solution to the supply problem.</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IMPLICATIONS FOR REGULATION</a:t>
            </a:r>
            <a:endParaRPr b="0" lang="en-US" sz="3000" spc="-1" strike="noStrike">
              <a:solidFill>
                <a:srgbClr val="575f6d"/>
              </a:solidFill>
              <a:latin typeface="Century Schoolbook"/>
            </a:endParaRPr>
          </a:p>
        </p:txBody>
      </p:sp>
      <p:sp>
        <p:nvSpPr>
          <p:cNvPr id="376"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Price setting/fixing/capping is not compatible with a market driven supply response to demand chang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t is not necessary in a competitive mark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SE/NTPF financial intervention is economically inefficient, and reflects a preoccupation with short term budgetary concerns rather than efficient operations of the LTC mark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IMPLICATIONS FOR REGULATION</a:t>
            </a:r>
            <a:endParaRPr b="0" lang="en-US" sz="3000" spc="-1" strike="noStrike">
              <a:solidFill>
                <a:srgbClr val="575f6d"/>
              </a:solidFill>
              <a:latin typeface="Century Schoolbook"/>
            </a:endParaRPr>
          </a:p>
        </p:txBody>
      </p:sp>
      <p:sp>
        <p:nvSpPr>
          <p:cNvPr id="378"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Quality regulation can be justified to deal with </a:t>
            </a:r>
            <a:r>
              <a:rPr b="0" i="1" lang="en-GB" sz="2400" spc="-1" strike="noStrike">
                <a:solidFill>
                  <a:srgbClr val="000000"/>
                </a:solidFill>
                <a:latin typeface="Century Schoolbook"/>
              </a:rPr>
              <a:t>information asymmetries </a:t>
            </a:r>
            <a:r>
              <a:rPr b="0" lang="en-GB" sz="2400" spc="-1" strike="noStrike">
                <a:solidFill>
                  <a:srgbClr val="000000"/>
                </a:solidFill>
                <a:latin typeface="Century Schoolbook"/>
              </a:rPr>
              <a:t>and </a:t>
            </a:r>
            <a:r>
              <a:rPr b="0" i="1" lang="en-GB" sz="2400" spc="-1" strike="noStrike">
                <a:solidFill>
                  <a:srgbClr val="000000"/>
                </a:solidFill>
                <a:latin typeface="Century Schoolbook"/>
              </a:rPr>
              <a:t>potential standard of care </a:t>
            </a:r>
            <a:r>
              <a:rPr b="0" lang="en-GB" sz="2400" spc="-1" strike="noStrike">
                <a:solidFill>
                  <a:srgbClr val="000000"/>
                </a:solidFill>
                <a:latin typeface="Century Schoolbook"/>
              </a:rPr>
              <a:t>problem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case for the current HIQA stance of forcing the pace on improved quality is difficult to understand.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is little or no evidence of cost/benefit analysis, and effective Regulatory Impact Assessmen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IMPLICATIONS FOR REGULATION</a:t>
            </a:r>
            <a:endParaRPr b="0" lang="en-US" sz="3000" spc="-1" strike="noStrike">
              <a:solidFill>
                <a:srgbClr val="575f6d"/>
              </a:solidFill>
              <a:latin typeface="Century Schoolbook"/>
            </a:endParaRPr>
          </a:p>
        </p:txBody>
      </p:sp>
      <p:sp>
        <p:nvSpPr>
          <p:cNvPr id="380"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IQA’s technical capacity to analyse information flows is questionable  (see 2012 report).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re is a predisposition to uniform prescription and micro-management in HIQA’s regulations on nursing home operation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REGULATION: THE NEED FOR REFORM</a:t>
            </a:r>
            <a:endParaRPr b="0" lang="en-US" sz="3000" spc="-1" strike="noStrike">
              <a:solidFill>
                <a:srgbClr val="575f6d"/>
              </a:solidFill>
              <a:latin typeface="Century Schoolbook"/>
            </a:endParaRPr>
          </a:p>
        </p:txBody>
      </p:sp>
      <p:sp>
        <p:nvSpPr>
          <p:cNvPr id="382"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Instead of prescribed format requirements HIQA should  establish performance indicators and rank</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structure of HIQA’s approach to implementation of regulation is good: publication of finding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A higher level availability of overall performance would be helpful.</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NHI: LOOKING FORWARD.</a:t>
            </a:r>
            <a:endParaRPr b="0" lang="en-US" sz="3000" spc="-1" strike="noStrike">
              <a:solidFill>
                <a:srgbClr val="575f6d"/>
              </a:solidFill>
              <a:latin typeface="Century Schoolbook"/>
            </a:endParaRPr>
          </a:p>
        </p:txBody>
      </p:sp>
      <p:sp>
        <p:nvSpPr>
          <p:cNvPr id="384"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1: While it is necessary to lobby for improvements in how current financing and regulation are operated, NHI and the stakeholders should also be thinking about long term development models and the triggers required to make this happe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2: The structure of the sector is changing as the HSE capacity contracts and will continue to contract.</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3: Consolidation of operators in the sector private/voluntary sector likely and should be accepted by the sector.</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NHI: LOOKING FORWARD</a:t>
            </a:r>
            <a:endParaRPr b="0" lang="en-US" sz="3000" spc="-1" strike="noStrike">
              <a:solidFill>
                <a:srgbClr val="575f6d"/>
              </a:solidFill>
              <a:latin typeface="Century Schoolbook"/>
            </a:endParaRPr>
          </a:p>
        </p:txBody>
      </p:sp>
      <p:sp>
        <p:nvSpPr>
          <p:cNvPr id="386"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4: Changes in the delivery of care generally in the healthcare sector have implications for the complexity of need and range of services provided by nursing homes (increased specialisation).</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5: The NH sector needs to be able to adapt to possible sociological trends in terms of provision of informal care.</a:t>
            </a: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entury Schoolbook"/>
              </a:rPr>
              <a:t>6: The sector needs to be sure that day to day reactions to budget derived changes in demand do not distract public attention from longer term and deeper changes that will affect the sector.</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68000" y="-360"/>
            <a:ext cx="7467480" cy="85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ISSUES TO BE ADDRESSED</a:t>
            </a:r>
            <a:endParaRPr b="0" lang="en-US" sz="3000" spc="-1" strike="noStrike">
              <a:solidFill>
                <a:srgbClr val="575f6d"/>
              </a:solidFill>
              <a:latin typeface="Century Schoolbook"/>
            </a:endParaRPr>
          </a:p>
        </p:txBody>
      </p:sp>
      <p:sp>
        <p:nvSpPr>
          <p:cNvPr id="354" name=""/>
          <p:cNvSpPr txBox="1"/>
          <p:nvPr/>
        </p:nvSpPr>
        <p:spPr>
          <a:xfrm>
            <a:off x="468000" y="1058760"/>
            <a:ext cx="7467480" cy="3656160"/>
          </a:xfrm>
          <a:prstGeom prst="rect">
            <a:avLst/>
          </a:prstGeom>
          <a:noFill/>
          <a:ln w="0">
            <a:noFill/>
          </a:ln>
        </p:spPr>
        <p:txBody>
          <a:bodyPr anchor="t">
            <a:normAutofit fontScale="98000"/>
          </a:bodyPr>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Can we predict demand/need and on that basis rely on planned approach to development of LTC?</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is required for a market driven response to a changing environment?</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How do the current and proposed approaches to financing and regulating LTC score in terms of the above? </a:t>
            </a:r>
            <a:endParaRPr b="0" lang="en-US" sz="2400" spc="-1" strike="noStrike">
              <a:solidFill>
                <a:srgbClr val="000000"/>
              </a:solidFill>
              <a:latin typeface="Century Schoolbook"/>
            </a:endParaRPr>
          </a:p>
          <a:p>
            <a:pPr marL="267120" indent="-26712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hat should </a:t>
            </a:r>
            <a:r>
              <a:rPr b="0" lang="en-GB" sz="2400" spc="-1" strike="noStrike">
                <a:solidFill>
                  <a:srgbClr val="000000"/>
                </a:solidFill>
                <a:latin typeface="Times New Roman"/>
                <a:ea typeface="Times New Roman"/>
              </a:rPr>
              <a:t>policy makers, stakeholders inc NHI be looking at in terms of the policy for</a:t>
            </a:r>
            <a:r>
              <a:rPr b="0" lang="en-GB" sz="2400" spc="-1" strike="noStrike">
                <a:solidFill>
                  <a:srgbClr val="000000"/>
                </a:solidFill>
                <a:latin typeface="Century Schoolbook"/>
              </a:rPr>
              <a:t> the sector?</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HAPE OF THINGS TO COME.</a:t>
            </a:r>
            <a:endParaRPr b="0" lang="en-US" sz="3000" spc="-1" strike="noStrike">
              <a:solidFill>
                <a:srgbClr val="575f6d"/>
              </a:solidFill>
              <a:latin typeface="Century Schoolbook"/>
            </a:endParaRPr>
          </a:p>
        </p:txBody>
      </p:sp>
      <p:sp>
        <p:nvSpPr>
          <p:cNvPr id="356"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Conventional forecasting of demand for NH care on the basis of demography is only feasible for about 15 years maximum.</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In any case applies only to LTC.</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Secondly, demographics is only one of the influences on demand.</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THE SHAPE OF THINGS TO COME</a:t>
            </a:r>
            <a:endParaRPr b="0" lang="en-US" sz="3000" spc="-1" strike="noStrike">
              <a:solidFill>
                <a:srgbClr val="575f6d"/>
              </a:solidFill>
              <a:latin typeface="Century Schoolbook"/>
            </a:endParaRPr>
          </a:p>
        </p:txBody>
      </p:sp>
      <p:pic>
        <p:nvPicPr>
          <p:cNvPr id="358" name="Content Placeholder 2" descr=""/>
          <p:cNvPicPr/>
          <p:nvPr/>
        </p:nvPicPr>
        <p:blipFill>
          <a:blip r:embed="rId1"/>
          <a:stretch/>
        </p:blipFill>
        <p:spPr>
          <a:xfrm>
            <a:off x="426960" y="1073160"/>
            <a:ext cx="7516800" cy="37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TO PREPARE : THE MARKET MODEL</a:t>
            </a:r>
            <a:endParaRPr b="0" lang="en-US" sz="3000" spc="-1" strike="noStrike">
              <a:solidFill>
                <a:srgbClr val="575f6d"/>
              </a:solidFill>
              <a:latin typeface="Century Schoolbook"/>
            </a:endParaRPr>
          </a:p>
        </p:txBody>
      </p:sp>
      <p:sp>
        <p:nvSpPr>
          <p:cNvPr id="360"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The key is not to predict in detail and prepare, but to ensure that the sector can respond effectively to changes in its environment. </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Schoolbook"/>
              </a:rPr>
              <a:t>Prediction helps set the likely broad  development of the sector and its environment in focus. </a:t>
            </a:r>
            <a:endParaRPr b="0" lang="en-US" sz="2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TO PREPARE : THE MARKET MODEL</a:t>
            </a:r>
            <a:endParaRPr b="0" lang="en-US" sz="3000" spc="-1" strike="noStrike">
              <a:solidFill>
                <a:srgbClr val="575f6d"/>
              </a:solidFill>
              <a:latin typeface="Century Schoolbook"/>
            </a:endParaRPr>
          </a:p>
        </p:txBody>
      </p:sp>
      <p:sp>
        <p:nvSpPr>
          <p:cNvPr id="362"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e know that under present policy parameters demand for LTC in NHs will rise dramatically over the next 10 – 15 year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state has signalled its intent to reduce its involvement in meeting deman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We know, therefore, that if demand is to be met this can only come from expanded private/voluntary sector capacity.</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HOW TO PREPARE: THE MARKET MODEL</a:t>
            </a:r>
            <a:endParaRPr b="0" lang="en-US" sz="3000" spc="-1" strike="noStrike">
              <a:solidFill>
                <a:srgbClr val="575f6d"/>
              </a:solidFill>
              <a:latin typeface="Century Schoolbook"/>
            </a:endParaRPr>
          </a:p>
        </p:txBody>
      </p:sp>
      <p:sp>
        <p:nvSpPr>
          <p:cNvPr id="364"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Meeting demand, therefore, requires that this sector’s capacity can expand as needs dictat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faces present and new NH operators with a choice: to be the managing agents of a state funded “private” system, o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Ensuring that they can fund expanded capacity as requir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is a </a:t>
            </a:r>
            <a:r>
              <a:rPr b="1" lang="en-GB" sz="2400" spc="-1" strike="noStrike">
                <a:solidFill>
                  <a:srgbClr val="000000"/>
                </a:solidFill>
                <a:latin typeface="Century Schoolbook"/>
              </a:rPr>
              <a:t>MARKET SOLUTION </a:t>
            </a:r>
            <a:r>
              <a:rPr b="0" lang="en-GB" sz="2400" spc="-1" strike="noStrike">
                <a:solidFill>
                  <a:srgbClr val="000000"/>
                </a:solidFill>
                <a:latin typeface="Century Schoolbook"/>
              </a:rPr>
              <a:t>on the supply side. </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575f6d"/>
                </a:solidFill>
                <a:latin typeface="Century Schoolbook"/>
              </a:rPr>
              <a:t>HOW TO PREPARE: THE ROLE OF THE FINANCE MECHANISM</a:t>
            </a:r>
            <a:endParaRPr b="0" lang="en-US" sz="2700" spc="-1" strike="noStrike">
              <a:solidFill>
                <a:srgbClr val="575f6d"/>
              </a:solidFill>
              <a:latin typeface="Century Schoolbook"/>
            </a:endParaRPr>
          </a:p>
        </p:txBody>
      </p:sp>
      <p:sp>
        <p:nvSpPr>
          <p:cNvPr id="366"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Ability to finance development is the key.</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e necessary condition is that suppliers must be financially viable, financially stable, profitable and not merely cover variable cost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his means accepting that there will be winners and losers. Suppliers must accept market disciplin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Operators cannot expect state or other finance for inefficient operation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06280"/>
            <a:ext cx="7467480" cy="857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575f6d"/>
                </a:solidFill>
                <a:latin typeface="Century Schoolbook"/>
              </a:rPr>
              <a:t>A MARKET SOLUTION REQUIRES PROFITS</a:t>
            </a:r>
            <a:endParaRPr b="0" lang="en-US" sz="3000" spc="-1" strike="noStrike">
              <a:solidFill>
                <a:srgbClr val="575f6d"/>
              </a:solidFill>
              <a:latin typeface="Century Schoolbook"/>
            </a:endParaRPr>
          </a:p>
        </p:txBody>
      </p:sp>
      <p:sp>
        <p:nvSpPr>
          <p:cNvPr id="368" name=""/>
          <p:cNvSpPr txBox="1"/>
          <p:nvPr/>
        </p:nvSpPr>
        <p:spPr>
          <a:xfrm>
            <a:off x="456840" y="1199880"/>
            <a:ext cx="7467480" cy="365580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To earn profits to service capital requirements  implies prices set to secure an adequate return on capital employed.</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Implications for the pricing of care?</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First, and before looking at the overall structure of payment for LTC, price capping must g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Schoolbook"/>
              </a:rPr>
              <a:t>Secondly, the regulatory regime will have to be changed. The squeeze must go.</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03T15:32:48Z</dcterms:created>
  <dc:creator>Moore</dc:creator>
  <dc:description/>
  <dc:language>en-US</dc:language>
  <cp:lastModifiedBy>admin</cp:lastModifiedBy>
  <dcterms:modified xsi:type="dcterms:W3CDTF">2012-11-13T09:44:54Z</dcterms:modified>
  <cp:revision>74</cp:revision>
  <dc:subject/>
  <dc:title>NHI: Preparing for an Era of Major Change</dc:title>
</cp:coreProperties>
</file>