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5F4BC-4ECC-4C28-A826-A8BEE79E0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CD33-BD23-464B-BA94-4FBE6BB45E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3B638-0CE6-4069-9D6F-3919D93CDB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2D8F-AA3D-421E-ACED-F429E9EAE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BE4C-B79A-484E-9AFA-06CE8E2F2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D166-2364-4188-A964-817B55A5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2AE2-B072-4F1C-9470-50DBC1496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31BDF-71A4-496B-937E-50E77500D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66EF-E684-4065-A15B-3A8D06CE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18BF6-454A-4350-B8F5-C8E4A1212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84691-394E-458E-8392-6E782EBC9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DE3F-02EB-4A40-9863-8091841F3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DE3B-7D9B-485F-8955-862FF0F99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76EE3-D37D-49E0-AF31-76A0DFF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32BF-9C89-4A4D-BBC2-D9A68B33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09BDA-F664-40CA-BA81-19F5AE16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2CF1-FC7F-4D71-BEBA-81C1BE67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4093-6783-424B-80AA-D90D6B45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AD2D1-922A-43A6-977B-545D97EF2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808A7-3906-4488-84FA-4B2B5215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92A-3F9D-45D8-97BD-6D41AA33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420-4B80-45E6-B356-170F92E12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B6EE-9C24-4604-B3FD-5D8C2FB1D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AF1-6DB1-46E4-AF4A-296F145C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C5A-9E63-4117-BA37-3DA5B1F2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3EC9-A837-4BDD-8245-53F95BF8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E1AC-5874-4305-880B-C0B009CD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c41"/>
            </a:gs>
            <a:gs pos="100000">
              <a:srgbClr val="2f386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spcBef>
                <a:spcPts val="75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339920" indent="-316080">
              <a:spcBef>
                <a:spcPts val="751"/>
              </a:spcBef>
              <a:buClr>
                <a:srgbClr val="99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7672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99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7FFC-BFDA-47E7-B771-9187078E2932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Picture 9" descr="hbc_Logo_white10"/>
          <p:cNvPicPr/>
          <p:nvPr/>
        </p:nvPicPr>
        <p:blipFill>
          <a:blip r:embed="rId2"/>
          <a:srcRect l="0" t="0" r="24977" b="4662"/>
          <a:stretch/>
        </p:blipFill>
        <p:spPr>
          <a:xfrm>
            <a:off x="2627280" y="6308640"/>
            <a:ext cx="3457440" cy="360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0c41"/>
            </a:gs>
            <a:gs pos="100000">
              <a:srgbClr val="2f3863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hbc_Logo_white10"/>
          <p:cNvPicPr/>
          <p:nvPr/>
        </p:nvPicPr>
        <p:blipFill>
          <a:blip r:embed="rId2"/>
          <a:srcRect l="0" t="0" r="22239" b="9624"/>
          <a:stretch/>
        </p:blipFill>
        <p:spPr>
          <a:xfrm>
            <a:off x="179280" y="5373720"/>
            <a:ext cx="5400720" cy="514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spcBef>
                <a:spcPts val="751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3" marL="1339920" indent="-316080">
              <a:spcBef>
                <a:spcPts val="751"/>
              </a:spcBef>
              <a:buClr>
                <a:srgbClr val="9966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c99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3F03-9383-4A0D-814C-C9C2AA7E50D0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hse.ie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Annual Private Nursing Home Survey</a:t>
            </a:r>
            <a:br>
              <a:rPr sz="3000"/>
            </a:b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2009/2010</a:t>
            </a:r>
            <a:br>
              <a:rPr sz="3000"/>
            </a:br>
            <a:br>
              <a:rPr sz="3000"/>
            </a:b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Brian McEnery</a:t>
            </a:r>
            <a:br>
              <a:rPr sz="2200"/>
            </a:b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Partner</a:t>
            </a:r>
            <a:br>
              <a:rPr sz="2200"/>
            </a:b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Horwath Bastow Charleton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96" name="Picture 5" descr="Nursing Homes Ireland logo"/>
          <p:cNvPicPr/>
          <p:nvPr/>
        </p:nvPicPr>
        <p:blipFill>
          <a:blip r:embed="rId1"/>
          <a:stretch/>
        </p:blipFill>
        <p:spPr>
          <a:xfrm>
            <a:off x="5973840" y="4869000"/>
            <a:ext cx="2485800" cy="963360"/>
          </a:xfrm>
          <a:prstGeom prst="rect">
            <a:avLst/>
          </a:prstGeom>
          <a:ln w="19080">
            <a:solidFill>
              <a:srgbClr val="cc9900"/>
            </a:solidFill>
            <a:miter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2BCDF-9D9E-4D27-BF13-A39C843115E1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600" spc="-1" strike="noStrike">
                <a:solidFill>
                  <a:srgbClr val="ffffff"/>
                </a:solidFill>
                <a:latin typeface="Bookman Old Style"/>
              </a:rPr>
              <a:t>Trends in Recently Developed Facilitie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 – Facilities developed in the last five year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86% provided accommodation for 40 residents or mor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30% incorporated specialised dementia care uni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30% provided day-care faciliti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19% were part of a retirement village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48% had contracted bed to the HS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A58B-18D6-4DDF-9410-86E6CCA4790F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Profile of Residents 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48% aged 85 or ov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Over half of all residents in the highest category of dependenc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38% of all residents diagnosed with dementia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Long stay residents – 96%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Average length of stay – 3.6 year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D67C-ABB4-41DF-A1E2-246B0A4E0FE0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Average Occupanc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graphicFrame>
        <p:nvGraphicFramePr>
          <p:cNvPr id="131" name="Object 7"/>
          <p:cNvGraphicFramePr/>
          <p:nvPr/>
        </p:nvGraphicFramePr>
        <p:xfrm>
          <a:off x="0" y="981000"/>
          <a:ext cx="9569520" cy="502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5695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CAD7-9496-44F5-B81A-2AE08849B90D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Average Occupanc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National average occupancy 2009/2010 – 86.4%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Decrease of 4.8% since 2007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Highest average occupancy – North-Eastern Area - 91.3%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Lowest average occupancy –North-Western Area – 79.7%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6E44-698B-4679-B6D4-358E60D84D1F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Weekly Rates – The Fair Deal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The Nursing Home Support Scheme (‘The Fair Deal’)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National Average Weekly Rates*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Private Nursing Home Single Room - €85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Private Nursing Home Shared Room - €844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Public Nursing Home Average Weekly Rate - €1,245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Average rate increase since the last survey of 8.9%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84360" y="5734080"/>
            <a:ext cx="72723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IE" sz="1500" spc="-1" strike="noStrike">
                <a:solidFill>
                  <a:srgbClr val="ffffff"/>
                </a:solidFill>
                <a:latin typeface="Arial"/>
              </a:rPr>
              <a:t>*Source: </a:t>
            </a:r>
            <a:r>
              <a:rPr b="0" lang="en-IE" sz="15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www.hse.ie</a:t>
            </a:r>
            <a:r>
              <a:rPr b="0" i="1" lang="en-IE" sz="1500" spc="-1" strike="noStrike">
                <a:solidFill>
                  <a:srgbClr val="ffffff"/>
                </a:solidFill>
                <a:latin typeface="Arial"/>
              </a:rPr>
              <a:t> July 2010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E94C-190E-498E-BF05-23D166E0EE5B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Staffing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Staff costs – 61.5% of turnover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Staff cost per registered bed - €22,919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Increase of 10% since 2007 (only 1% variation due to rate increases)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Predominately due to staffing level increase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61DEA-8697-4789-A891-EE4B62D92486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Food Cost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Food costs – 5.2% of turnove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Average annual food cost per resident - €2,194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11.8% increase since 2007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ignificantly higher increases in some Area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South-Western Are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Western Are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9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South-Eastern Area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Largely due to increased HIQA requirements around menu options for residen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9D26-882C-43F0-8BB6-7BA3E056C867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HIQA Compliance Cost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HIQA Quality Standards – operational since July 2009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pecific physical environment regulation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Revisions to staffing levels, rotas and rol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Onerous cost of complianc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Number of facilities have already closed due to inability to absorb compliance cos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napshot of costs incurred </a:t>
            </a:r>
            <a:r>
              <a:rPr b="1" lang="en-IE" sz="2600" spc="-1" strike="noStrike" u="sng">
                <a:solidFill>
                  <a:srgbClr val="ffffff"/>
                </a:solidFill>
                <a:uFillTx/>
                <a:latin typeface="Bookman Old Style"/>
              </a:rPr>
              <a:t>to date</a:t>
            </a: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 by operators at time of Survey completion – c. €78,00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5A92-ECF5-434D-8F66-4284F72886D6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Outlook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hallenge of increasing cost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Operational costs – rates, energy costs are rising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HIQA compliance cost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The Fair Dea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More certainty – but lack of fair scientific approach is worrying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Public and private sector rates disparity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Impact of termination of capital allowanc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Reduced level of new nursing home developments in future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Best location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1022400" indent="-35100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Strongest business case promoted by financially sound and committed operator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19E10-8DF2-4A01-84A9-89807592FB8F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Sixth Annual Private Nursing Home Survey compiled by Horwath Bastow Charleton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Purpose of the Survey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To report comprehensively on the state of the industr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To analyse key industry indicators and trend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Times New Roman"/>
              </a:rPr>
              <a:t>To report on matters of concern to nursing home operator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88BE-B211-431C-9CE9-6A0C94649A8D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Appreciation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69960" indent="-325440" algn="just">
              <a:lnSpc>
                <a:spcPct val="100000"/>
              </a:lnSpc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ffff"/>
                </a:solidFill>
                <a:latin typeface="Times New Roman"/>
              </a:rPr>
              <a:t>Survey co-sponsors 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100000"/>
              </a:lnSpc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ffff"/>
                </a:solidFill>
                <a:latin typeface="Times New Roman"/>
              </a:rPr>
              <a:t>The nursing home operators that participated in the Survey.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03" name="Picture 4" descr="Bank_of_Ireland"/>
          <p:cNvPicPr/>
          <p:nvPr/>
        </p:nvPicPr>
        <p:blipFill>
          <a:blip r:embed="rId1"/>
          <a:stretch/>
        </p:blipFill>
        <p:spPr>
          <a:xfrm>
            <a:off x="1187280" y="2565360"/>
            <a:ext cx="3973680" cy="4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Homecare Logo Hi-Res"/>
          <p:cNvPicPr/>
          <p:nvPr/>
        </p:nvPicPr>
        <p:blipFill>
          <a:blip r:embed="rId2"/>
          <a:stretch/>
        </p:blipFill>
        <p:spPr>
          <a:xfrm>
            <a:off x="6156360" y="2133720"/>
            <a:ext cx="1274760" cy="14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5A5-E23D-4E9A-BA09-4727ECF70950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Survey Methodology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Undertaken in early 2010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Comprehensive questionnaire issued to all private nursing homes in the count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Times New Roman"/>
              </a:rPr>
              <a:t>Findings relate to the year to end of April 2010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Results are presented based on the ten HSE areas that existed prior to the introduction of the new structures in 2005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 algn="just">
              <a:lnSpc>
                <a:spcPct val="90000"/>
              </a:lnSpc>
              <a:spcBef>
                <a:spcPts val="624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ffff"/>
                </a:solidFill>
                <a:latin typeface="Times New Roman"/>
              </a:rPr>
              <a:t>Facilitates more meaningful regional analysis - critically important</a:t>
            </a:r>
            <a:endParaRPr b="0" lang="en-US" sz="25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ffffff"/>
                </a:solidFill>
                <a:latin typeface="Times New Roman"/>
              </a:rPr>
              <a:t>Averages – individual homes will of course va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A028-D12E-4775-912D-1A91D7F1967A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Overview – 2009/2010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2009 – Landmark year in the private nursing home sector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National Quality Standards for Residential Care Settings for Older People in Ireland – July 2009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Nursing Home Support Scheme – ‘The Fair Deal’ – October 2009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Year to April 2010 – challenging for the industry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Upward pressure on costs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10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200" spc="-1" strike="noStrike">
                <a:solidFill>
                  <a:srgbClr val="ffffff"/>
                </a:solidFill>
                <a:latin typeface="Bookman Old Style"/>
              </a:rPr>
              <a:t>Fall in average occupancies 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F00D-9880-4C3E-99BF-597D414252B0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Supply in the Sector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447 registered private nursing home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20,590 private beds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Increase in supply of private beds 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9% since 2007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8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400" spc="-1" strike="noStrike">
                <a:solidFill>
                  <a:srgbClr val="ffffff"/>
                </a:solidFill>
                <a:latin typeface="Bookman Old Style"/>
              </a:rPr>
              <a:t>38% since 2003</a:t>
            </a:r>
            <a:endParaRPr b="0" lang="en-US" sz="34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Public &amp; private supply in 2007 was 28,558 and this increased to 30,223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07AD-31A7-4AC8-B563-9B634CF7042F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Demographic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Ireland has an ageing population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Growing demand for care facilities for the older person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Population aged 65 and ov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ensus 2006 – 467,926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SO estimate 2009 – c.495,000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CSO longer term forecast – 1.3m to 1.4m by 2041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hows a clear need to encourage continuing investment into the industry 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9F4D6-2743-4EC4-96A0-B5CCECBD7B00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Prospective Demand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920" y="1599840"/>
            <a:ext cx="8642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Useful to analyse bed numbers in the context of the total population aged 65 and ov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Nationally there is one private nursing home bed for every 22. 7 persons aged 65 and over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For public &amp; private - 1 bed per 15.5 persons (2007 – 16.4 persons) CSO 2006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Using CSO estimates of population for 2009 its 16.4 persons per bed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877080" y="623736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F843B-8C9D-4D1E-AD60-75C3A33016BA}" type="slidenum">
              <a:rPr b="0" lang="en-US" sz="1200" spc="-1" strike="noStrike">
                <a:solidFill>
                  <a:srgbClr val="cc9900"/>
                </a:solidFill>
                <a:latin typeface="Trebuchet MS"/>
              </a:rPr>
              <a:t>&lt;number&gt;</a:t>
            </a:fld>
            <a:r>
              <a:rPr b="0" lang="en-US" sz="1200" spc="-1" strike="noStrike">
                <a:solidFill>
                  <a:srgbClr val="cc99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000" spc="-1" strike="noStrike">
                <a:solidFill>
                  <a:srgbClr val="ffffff"/>
                </a:solidFill>
                <a:latin typeface="Bookman Old Style"/>
              </a:rPr>
              <a:t>Profile of Facilities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ffffff"/>
                </a:solidFill>
                <a:latin typeface="Bookman Old Style"/>
              </a:rPr>
              <a:t>Survey Findings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Single en-suite bedrooms – most common type of accommodation availabl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Majority of facilities purpose buil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Average length of time established – 17.5 year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21% of facilities incorporated a specialised dementia unit (average 19 bed units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20% of facilities provided day-care facilities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ffffff"/>
                </a:solidFill>
                <a:latin typeface="Bookman Old Style"/>
              </a:rPr>
              <a:t>53% of facilities contracted beds to the HSE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0T11:47:33Z</dcterms:created>
  <dc:creator>Mary McNamara</dc:creator>
  <dc:description/>
  <dc:language>en-US</dc:language>
  <cp:lastModifiedBy>Olivia Slater</cp:lastModifiedBy>
  <dcterms:modified xsi:type="dcterms:W3CDTF">2010-10-04T13:55:57Z</dcterms:modified>
  <cp:revision>11</cp:revision>
  <dc:subject/>
  <dc:title>Heading </dc:title>
</cp:coreProperties>
</file>