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EC1A-EC38-4060-AC40-26EC8A17D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BE4B-954E-43C0-AB6D-2E0ACC583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DC28-58C6-4652-82EB-424781FA1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F8C-006F-41FE-8CFA-CB545D91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CFD6-C0CB-49FD-9D34-98428CBC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B92C-917A-4F6E-8958-F21D912B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C52-01B8-4852-A22B-58C92B96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D742-E54E-4079-B183-D516589A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FAE5-421E-4B30-864D-7F77E25D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3DDD-0424-483C-B5EE-49BA984B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138E-98F4-4B4F-ADBB-D2DDCEB7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559C-160B-402B-99CB-775EBFD8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994A-4263-4FDA-9050-68262DCA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BADC-E95F-4AC2-8F57-57B6317B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2BD-09A0-4431-BCD0-18E2952D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2C8D-BD72-4685-8562-E3EFA7AA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A32C-239B-4917-8823-FA80B0B5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E2D6-E003-443B-9137-709502D8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24E6-8177-4F1C-BE86-9CF32DDE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00B7-499D-400D-B7EB-A03C868B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810-B598-42A5-9A75-A491B2C0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652-AED8-4F73-89E7-1560596D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F2B-3534-41B6-B836-C7312B9B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74F-1E78-4536-A1DF-A9911576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EE5-1E12-44C2-B0B2-F333CDF7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6FF-64CB-474C-B7AA-FE12B34E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C7E-5099-4D71-A253-3DE3874D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c41"/>
            </a:gs>
            <a:gs pos="100000">
              <a:srgbClr val="2f386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spcBef>
                <a:spcPts val="75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339920" indent="-316080">
              <a:spcBef>
                <a:spcPts val="751"/>
              </a:spcBef>
              <a:buClr>
                <a:srgbClr val="99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672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99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9D78-E280-4B46-84AD-407FC26E5434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9" descr="hbc_Logo_white10"/>
          <p:cNvPicPr/>
          <p:nvPr/>
        </p:nvPicPr>
        <p:blipFill>
          <a:blip r:embed="rId2"/>
          <a:srcRect l="0" t="0" r="24977" b="4662"/>
          <a:stretch/>
        </p:blipFill>
        <p:spPr>
          <a:xfrm>
            <a:off x="2627280" y="6308640"/>
            <a:ext cx="34574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c41"/>
            </a:gs>
            <a:gs pos="100000">
              <a:srgbClr val="2f386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9" descr="hbc_Logo_white10"/>
          <p:cNvPicPr/>
          <p:nvPr/>
        </p:nvPicPr>
        <p:blipFill>
          <a:blip r:embed="rId2"/>
          <a:srcRect l="0" t="0" r="22239" b="9624"/>
          <a:stretch/>
        </p:blipFill>
        <p:spPr>
          <a:xfrm>
            <a:off x="179280" y="5373720"/>
            <a:ext cx="5400720" cy="514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spcBef>
                <a:spcPts val="75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339920" indent="-316080">
              <a:spcBef>
                <a:spcPts val="751"/>
              </a:spcBef>
              <a:buClr>
                <a:srgbClr val="99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99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C3C8-72B0-4220-BDE7-6B5D5A779503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hse.ie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Annual Private Nursing Home Survey</a:t>
            </a:r>
            <a:br>
              <a:rPr sz="3000"/>
            </a:b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2009/2010</a:t>
            </a:r>
            <a:br>
              <a:rPr sz="3000"/>
            </a:br>
            <a:br>
              <a:rPr sz="3000"/>
            </a:b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Brian McEnery</a:t>
            </a:r>
            <a:br>
              <a:rPr sz="2200"/>
            </a:b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Partner</a:t>
            </a:r>
            <a:br>
              <a:rPr sz="2200"/>
            </a:b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Horwath Bastow Charleto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6" name="Picture 5" descr="Nursing Homes Ireland logo"/>
          <p:cNvPicPr/>
          <p:nvPr/>
        </p:nvPicPr>
        <p:blipFill>
          <a:blip r:embed="rId1"/>
          <a:stretch/>
        </p:blipFill>
        <p:spPr>
          <a:xfrm>
            <a:off x="5973840" y="4869000"/>
            <a:ext cx="2485800" cy="963360"/>
          </a:xfrm>
          <a:prstGeom prst="rect">
            <a:avLst/>
          </a:prstGeom>
          <a:ln w="19080">
            <a:solidFill>
              <a:srgbClr val="cc99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E6B6-F2A7-483D-B94B-AE659AF40A16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Bookman Old Style"/>
              </a:rPr>
              <a:t>Trends in Recently Developed Facilitie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Survey Findings – Facilities developed in the last five year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86% provided accommodation for 40 residents or mor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30% incorporated specialised dementia care uni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30% provided day-care facilitie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19% were part of a retirement village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48% had contracted bed to the HS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A5C5-E467-4EA9-9BFF-2450EDF11CC2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Profile of Residents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Survey Finding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48% aged 85 or ove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Over half of all residents in the highest category of dependency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38% of all residents diagnosed with dementi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Long stay residents – 96%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Average length of stay – 3.6 year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EB64-F5BD-471B-B797-ECD2735DE54C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Average Occupanc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31" name="Object 7"/>
          <p:cNvGraphicFramePr/>
          <p:nvPr/>
        </p:nvGraphicFramePr>
        <p:xfrm>
          <a:off x="0" y="981000"/>
          <a:ext cx="956952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5695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48AF-5DDD-4CA4-8F62-FD625A341FE5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Average Occupanc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National average occupancy 2009/2010 – 86.4%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Decrease of 4.8% since 2007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Highest average occupancy – North-Eastern Area - 91.3%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Lowest average occupancy –North-Western Area – 79.7%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1E7A-ADC8-4946-ACAE-A73698E4DE8F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Weekly Rates – The Fair Deal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The Nursing Home Support Scheme (‘The Fair Deal’)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National Average Weekly Rates*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Private Nursing Home Single Room - €850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Private Nursing Home Shared Room - €844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Public Nursing Home Average Weekly Rate - €1,245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Average rate increase since the last survey of 8.9%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84360" y="5734080"/>
            <a:ext cx="727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500" spc="-1" strike="noStrike">
                <a:solidFill>
                  <a:srgbClr val="ffffff"/>
                </a:solidFill>
                <a:latin typeface="Arial"/>
              </a:rPr>
              <a:t>*Source: </a:t>
            </a:r>
            <a:r>
              <a:rPr b="0" lang="en-IE" sz="15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www.hse.ie</a:t>
            </a:r>
            <a:r>
              <a:rPr b="0" i="1" lang="en-IE" sz="1500" spc="-1" strike="noStrike">
                <a:solidFill>
                  <a:srgbClr val="ffffff"/>
                </a:solidFill>
                <a:latin typeface="Arial"/>
              </a:rPr>
              <a:t> July 201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B7AB-0332-49C1-827E-81509CD59004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Staffing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Survey Finding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Staff costs – 61.5% of turnover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Staff cost per registered bed - €22,919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Increase of 10% since 2007 (only 1% variation due to rate increases)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Predominately due to staffing level increase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05C4-C2EC-4DEB-8267-FB10A5C1DF27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Food Cost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Survey Finding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Food costs – 5.2% of turnove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Average annual food cost per resident - €2,194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11.8% increase since 2007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Significantly higher increases in some Area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South-Western Area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Western Area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South-Eastern Area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Largely due to increased HIQA requirements around menu options for residen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B0B6-BF42-4539-B683-25BCDFB99152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HIQA Compliance Cost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HIQA Quality Standards – operational since July 2009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Specific physical environment regulation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Revisions to staffing levels, rotas and role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Onerous cost of complianc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Number of facilities have already closed due to inability to absorb compliance cos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Snapshot of costs incurred </a:t>
            </a:r>
            <a:r>
              <a:rPr b="1" lang="en-IE" sz="2600" spc="-1" strike="noStrike" u="sng">
                <a:solidFill>
                  <a:srgbClr val="ffffff"/>
                </a:solidFill>
                <a:uFillTx/>
                <a:latin typeface="Bookman Old Style"/>
              </a:rPr>
              <a:t>to date</a:t>
            </a: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 by operators at time of Survey completion – c. €78,000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B52C-160C-4F8F-A9C4-212BD9D8121C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Outlook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Challenge of increasing cos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Operational costs – rates, energy costs are rising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HIQA compliance cost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The Fair Dea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More certainty – but lack of fair scientific approach is worrying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Public and private sector rates dispari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Impact of termination of capital allowanc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Reduced level of new nursing home developments in future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Best location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Strongest business case promoted by financially sound and committed operator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1E54-7E18-4B51-98EC-311AB5FB7CA0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Times New Roman"/>
              </a:rPr>
              <a:t>Sixth Annual Private Nursing Home Survey compiled by Horwath Bastow Charleton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Times New Roman"/>
              </a:rPr>
              <a:t>Purpose of the Survey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 algn="just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Times New Roman"/>
              </a:rPr>
              <a:t>To report comprehensively on the state of the industry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 algn="just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Times New Roman"/>
              </a:rPr>
              <a:t>To analyse key industry indicators and trend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 algn="just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Times New Roman"/>
              </a:rPr>
              <a:t>To report on matters of concern to nursing home operator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730F-25A5-46BA-850F-8C2B2150DD32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Appreci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 algn="just">
              <a:lnSpc>
                <a:spcPct val="100000"/>
              </a:lnSpc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ffff"/>
                </a:solidFill>
                <a:latin typeface="Times New Roman"/>
              </a:rPr>
              <a:t>Survey co-sponsors 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 algn="just">
              <a:lnSpc>
                <a:spcPct val="100000"/>
              </a:lnSpc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ffff"/>
                </a:solidFill>
                <a:latin typeface="Times New Roman"/>
              </a:rPr>
              <a:t>The nursing home operators that participated in the Survey.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3" name="Picture 4" descr="Bank_of_Ireland"/>
          <p:cNvPicPr/>
          <p:nvPr/>
        </p:nvPicPr>
        <p:blipFill>
          <a:blip r:embed="rId1"/>
          <a:stretch/>
        </p:blipFill>
        <p:spPr>
          <a:xfrm>
            <a:off x="1187280" y="2565360"/>
            <a:ext cx="3973680" cy="46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omecare Logo Hi-Res"/>
          <p:cNvPicPr/>
          <p:nvPr/>
        </p:nvPicPr>
        <p:blipFill>
          <a:blip r:embed="rId2"/>
          <a:stretch/>
        </p:blipFill>
        <p:spPr>
          <a:xfrm>
            <a:off x="6156360" y="2133720"/>
            <a:ext cx="1274760" cy="14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3B2B-BD2E-43A5-A407-A1D68A06BE9C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Survey Methodolog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Times New Roman"/>
              </a:rPr>
              <a:t>Undertaken in early 2010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Comprehensive questionnaire issued to all private nursing homes in the countr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Times New Roman"/>
              </a:rPr>
              <a:t>Findings relate to the year to end of April 2010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Results are presented based on the ten HSE areas that existed prior to the introduction of the new structures in 2005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ffff"/>
                </a:solidFill>
                <a:latin typeface="Times New Roman"/>
              </a:rPr>
              <a:t>Facilitates more meaningful regional analysis - critically important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Averages – individual homes will of course var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068A-A6AA-4690-A0F7-5D09A78D5FE9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Overview – 2009/2010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2009 – Landmark year in the private nursing home secto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National Quality Standards for Residential Care Settings for Older People in Ireland – July 2009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Nursing Home Support Scheme – ‘The Fair Deal’ – October 2009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Year to April 2010 – challenging for the industry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Upward pressure on cost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Fall in average occupancies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819B-E9C6-4BA1-A749-4A72B93F1BEE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Supply in the Sector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447 registered private nursing home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20,590 private bed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Increase in supply of private beds 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9% since 2007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38% since 2003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Public &amp; private supply in 2007 was 28,558 and this increased to 30,223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1EA6-9B32-45C4-8B64-49D55EA18FCD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Demographic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Ireland has an ageing population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Growing demand for care facilities for the older person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Population aged 65 and over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Census 2006 – 467,926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CSO estimate 2009 – c.495,000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CSO longer term forecast – 1.3m to 1.4m by 2041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Shows a clear need to encourage continuing investment into the industry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E52B-23E4-4D45-8B44-2E0F7AC6CA12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Prospective Demand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Useful to analyse bed numbers in the context of the total population aged 65 and over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Nationally there is one private nursing home bed for every 22. 7 persons aged 65 and over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For public &amp; private - 1 bed per 15.5 persons (2007 – 16.4 persons) CSO 2006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Using CSO estimates of population for 2009 its 16.4 persons per bed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9ED4-4275-4EAC-AF9A-3164BCCB6FB1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Profile of Faciliti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Survey Finding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Single en-suite bedrooms – most common type of accommodation availabl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Majority of facilities purpose buil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Average length of time established – 17.5 year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21% of facilities incorporated a specialised dementia unit (average 19 bed units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20% of facilities provided day-care facilitie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53% of facilities contracted beds to the HS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1:47:33Z</dcterms:created>
  <dc:creator>Mary McNamara</dc:creator>
  <dc:description/>
  <dc:language>en-US</dc:language>
  <cp:lastModifiedBy>Olivia Slater</cp:lastModifiedBy>
  <dcterms:modified xsi:type="dcterms:W3CDTF">2010-10-04T13:55:57Z</dcterms:modified>
  <cp:revision>11</cp:revision>
  <dc:subject/>
  <dc:title>Heading </dc:title>
</cp:coreProperties>
</file>